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77C-2292-4F56-B721-26ABB87C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647-20A5-4904-8AC3-AB63536B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3B7-64A6-4BE3-ACAE-53A0E0FF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DD7-A03A-426C-8D86-8E1D25D9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CEC-EE53-41B5-BD5D-8571377B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229-BB26-43D5-ACEB-5C5C61CA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BBD-02B3-4092-91F1-5B0DF557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835-6A1B-4C3F-9A95-4DDDEB54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62A-E835-4E90-9008-91986DEF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E58-F910-4261-9292-DFF282BF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F7A-D013-4183-9FEE-596B689C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BF4-56A3-4BF4-B731-FC7658DD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A3B2-899A-4866-BB4E-11D116F25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eview Phonic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sentences and identify the word that has the /f/ sound.  Circle the letters that stand for /f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phone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has a cold and a c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took many photos on our t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studied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earned about graphs in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          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505320" y="548640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495680" y="49528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7:41:18Z</dcterms:created>
  <dc:creator> </dc:creator>
  <dc:description/>
  <dc:language>en-US</dc:language>
  <cp:lastModifiedBy>teacher</cp:lastModifiedBy>
  <dcterms:modified xsi:type="dcterms:W3CDTF">2011-03-05T09:23:32Z</dcterms:modified>
  <cp:revision>2</cp:revision>
  <dc:subject/>
  <dc:title>Review Phonics</dc:title>
</cp:coreProperties>
</file>